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D12-0FBD-4D54-825B-47F78F31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CDC-5DC2-473F-B5CE-7B2872F8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9AA-40B8-48FC-A5AB-74A2E3FB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79E-8244-4184-94BB-8428411A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7648-62F2-4FAB-A36F-69D772E9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027D-5F50-4BD2-A13E-F3F09D76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F340-0D34-4924-BAD7-441A95D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61A6-548B-47B8-8DCE-F2B37794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666F-FABC-4D95-AD21-DC1C255C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01AF-BC6B-4ECC-B66B-49424BF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D016-B366-4499-9B3C-EC8FE8C9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8DF-166A-4984-A73D-2F389921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647-E033-473F-8263-F2B245C9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139F-9088-48E6-8FC2-28F0218F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483B-AA60-433F-8EE5-0445F7BE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BC37-3A23-4592-80A5-6F95E9CB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164D-B30D-4D2F-9894-9D74925C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325-7502-4AC8-B474-284C5804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6B7-30C3-460B-945A-B860E255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CD5-A46E-482D-991C-06B5CFFF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D48-15E6-4773-B60B-DB3360E5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6AE-8EB1-4862-B997-96EEA0D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F90-9802-497E-A7E8-7F04F65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67A-4034-4A74-9E54-F1C56D3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C24E-14EA-481F-AF39-6EB3890AB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C6D9-6EF3-4B19-B9CD-E0CE587B5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21304"/>
                </a:solidFill>
                <a:latin typeface="Times New Roman"/>
              </a:rPr>
              <a:t>Martin Luther King, Jr.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523880" y="4267080"/>
            <a:ext cx="69343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“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 Have a Dream…”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08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mes Earl 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3786480" cy="3886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740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5867280"/>
            <a:ext cx="822960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mes Earl Ray assassinated Martin Luther King on April 3.19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808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373860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n in Atlanta,Georgia January 15,1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4 was awarded Nobel Peace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assinated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 3, 196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905120" y="0"/>
            <a:ext cx="60195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rtin`s Gra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808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46760" y="1752480"/>
            <a:ext cx="374004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14600" cy="1666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685800"/>
            <a:ext cx="380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rtin's Spee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08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895480" y="685800"/>
            <a:ext cx="38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ords of His Speec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08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artin Luther 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7386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08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Monu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89200" y="1752480"/>
            <a:ext cx="374004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808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1640" y="1752480"/>
            <a:ext cx="374004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752480" y="380880"/>
            <a:ext cx="60199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rtin`s Li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808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gradFill rotWithShape="0">
            <a:gsLst>
              <a:gs pos="0">
                <a:srgbClr val="d9dc4a"/>
              </a:gs>
              <a:gs pos="100000">
                <a:srgbClr val="64652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benezer Baptist Chur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30680" y="1752480"/>
            <a:ext cx="374004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808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8859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46760" y="1752480"/>
            <a:ext cx="374004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362320" y="533520"/>
            <a:ext cx="44956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rotes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808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46400" y="175248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600200" y="380880"/>
            <a:ext cx="5791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LK Street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808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23:41:36Z</dcterms:created>
  <dc:creator>Andrew R. Perrong</dc:creator>
  <dc:description/>
  <dc:language>en-US</dc:language>
  <cp:lastModifiedBy>OLGC</cp:lastModifiedBy>
  <dcterms:modified xsi:type="dcterms:W3CDTF">2007-01-10T19:31:36Z</dcterms:modified>
  <cp:revision>15</cp:revision>
  <dc:subject/>
  <dc:title>Martin Luther King</dc:title>
</cp:coreProperties>
</file>